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lass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769-824E-4AAC-AA75-89A8ED61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8F2B-E450-4BD3-877F-2243CCB6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3BF-315F-471C-89DA-47DE2269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599-A26D-4EFF-8B73-ECA9C79A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710-5FF4-45A7-B530-93D5DBF7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CB9-CAAF-4DFE-93D3-90963BDF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C28-4106-469F-B4FE-421C8AB2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1BC-28BE-4734-8283-4B3EA4BC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4390-141D-48C0-B7BA-A3CDBF60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770-4DB9-46A5-A24C-C7BF55FE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BC0-5676-43C5-AAE2-7AAE84E1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4C0-085C-4CB9-A210-556CEA13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CE90-7B01-430C-BAFF-5FEE876ED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jOGNVH3D4Y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3NKWF8uJY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4-3 Noteguide  Physics and Quantam Mechanic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52280" y="106668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Mechanical Model came from the study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ewton thought it was because light consisted of particle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19810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52280" y="190512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286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ater it was confirmed light comes in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33520" y="236232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 complete wave cycle starts at zero to reach its lowest value and returns to z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mplitude of wave = waves height from zero to c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80880" y="365760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avelength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) = distance between c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frequency (ν) = # of wave cycles to pass a given point per unit of time.  Measured in cylces per second = hertz (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n calculate frequency and waveleng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838080" y="12193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ν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62120" y="1523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avelength and frequency of light are inversely proportional to each other.  (As one increases, the other decrea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09480" y="266688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consists of electromagnetic waves (rad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cludes radio waves, microwaves, infrared waves, visible light, ultraviolet waves, X-rays, and gamma 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l electromagnetic waves travel in a vacuum at a spee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99a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pectr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sunlight passes through a prisim and the different frequencies separate into a rainbow of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H:\chemistry\spectrum 001.jpg"/>
          <p:cNvPicPr/>
          <p:nvPr/>
        </p:nvPicPr>
        <p:blipFill>
          <a:blip r:embed="rId2"/>
          <a:stretch/>
        </p:blipFill>
        <p:spPr>
          <a:xfrm>
            <a:off x="304920" y="1295280"/>
            <a:ext cx="830556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52280" y="1143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Spectra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152388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atoms absorb energy, they electrons jump to a higher energy level and as they lose energy and return to the lower energy level they emit the energy in the form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: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eon Light in a gas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09480" y="32004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ach specific frequency of visible light has its own particular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09480" y="38862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we use a prisim, we can see the frequencies of light emitted by an element separate into distinct lines = atomic emission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066680" y="5029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ach line in the spectrum corresponds to 1 frequency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 2 elements have the same emission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676520" y="1143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how two snowflakes are not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838080" y="15238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mission spectrum useful to study the stars’ make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80880" y="20574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hr’s model also hypothesized that electrons can jump to higher energy levels. (hydrogen atom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85800" y="2895480"/>
            <a:ext cx="815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lectron in its lowest energy level = ground state (quantum # (n) =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the electron gets excited (not that way silly   )  the atom jumps to the excited stage with the n = 2, 3, 4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6934320" y="39625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85800" y="4495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k smarty pants, when is the light given off?  When the electron goes down an energ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 can calculate how much electronic transition (jumping from/to energy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371600" y="12952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  (h is constant = 6.626 x 1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3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838080" y="18288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given off by an electron moving from a higher to a lower energy level has a frequency directly proportional to the energy change of the elec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66680" y="31240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is why each transition makes a line of a specific frequency in th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04920" y="39625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28600" y="3886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43434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stein says that light is explained as quanta of energy (behave as wave particles)  = ph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De Broglie uses the idea of light particles traveling in waves to describe how all matter travel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04920" y="1676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ical Mechanics vs. Quantum Mecha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685800" y="2133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lassical deals with describing the motion of large bodies  and quantum describes the motion of subatomic particles and atoms as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5800" y="3276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eisenberg = can’t find the exact velocity and position of a particle at the same time (like electr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143000" y="403848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?  Because the mass is so small that when struck by a photon it affects its motion in a way that is not predictable.  Therefore, just trying to determine the position changes its velocit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1:34:41Z</dcterms:created>
  <dc:creator>Farwell Area Schools</dc:creator>
  <dc:description/>
  <dc:language>en-US</dc:language>
  <cp:lastModifiedBy>Customer</cp:lastModifiedBy>
  <dcterms:modified xsi:type="dcterms:W3CDTF">2009-10-26T18:13:18Z</dcterms:modified>
  <cp:revision>20</cp:revision>
  <dc:subject/>
  <dc:title>Unit 4-3 Noteguide  Phsyics and Quantem Mechanical Model</dc:title>
</cp:coreProperties>
</file>